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jpeg" ContentType="image/jpeg"/>
  <Override PartName="/ppt/media/image56.wmf" ContentType="image/x-wmf"/>
  <Override PartName="/ppt/media/image4.jpeg" ContentType="image/jpeg"/>
  <Override PartName="/ppt/media/image37.jpeg" ContentType="image/jpeg"/>
  <Override PartName="/ppt/media/image3.jpeg" ContentType="image/jpeg"/>
  <Override PartName="/ppt/media/image28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60.wmf" ContentType="image/x-wmf"/>
  <Override PartName="/ppt/media/image35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14.wmf" ContentType="image/x-wmf"/>
  <Override PartName="/ppt/media/image65.jpeg" ContentType="image/jpeg"/>
  <Override PartName="/ppt/media/image8.jpeg" ContentType="image/jpeg"/>
  <Override PartName="/ppt/media/image41.wmf" ContentType="image/x-wmf"/>
  <Override PartName="/ppt/media/image25.wmf" ContentType="image/x-wmf"/>
  <Override PartName="/ppt/media/image62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9.wmf" ContentType="image/x-wmf"/>
  <Override PartName="/ppt/media/image63.wmf" ContentType="image/x-wmf"/>
  <Override PartName="/ppt/media/image26.wmf" ContentType="image/x-wmf"/>
  <Override PartName="/ppt/media/image58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59.wmf" ContentType="image/x-wmf"/>
  <Override PartName="/ppt/media/image64.jpeg" ContentType="image/jpeg"/>
  <Override PartName="/ppt/media/image61.wmf" ContentType="image/x-wmf"/>
  <Override PartName="/ppt/media/image19.wmf" ContentType="image/x-wmf"/>
  <Override PartName="/ppt/media/image24.wmf" ContentType="image/x-wmf"/>
  <Override PartName="/ppt/media/image5.jpeg" ContentType="image/jpeg"/>
  <Override PartName="/ppt/media/image12.jpeg" ContentType="image/jpeg"/>
  <Override PartName="/ppt/media/image17.wmf" ContentType="image/x-wmf"/>
  <Override PartName="/ppt/media/image10.jpeg" ContentType="image/jpeg"/>
  <Override PartName="/ppt/media/image54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9.jpeg" ContentType="image/jpeg"/>
  <Override PartName="/ppt/media/image51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48.jpeg" ContentType="image/jpeg"/>
  <Override PartName="/ppt/media/image13.jpeg" ContentType="image/jpeg"/>
  <Override PartName="/ppt/media/image47.wmf" ContentType="image/x-wmf"/>
  <Override PartName="/ppt/media/image49.jpeg" ContentType="image/jpeg"/>
  <Override PartName="/ppt/media/image4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F59-EFFF-4F52-870D-D07453DB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A4D-10EF-4630-A3D9-0D6A785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323-9671-4822-8D6E-715C700A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A10-B297-4A33-A627-4B26E125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5FC-DDF3-4CA4-A54E-785F6DC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404-2279-40D9-9B32-52375A8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A66-DC62-4760-A151-A6F9D42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6E3-D88E-45E7-A3DE-221810B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EC8-AC72-4355-B09A-770A912A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4FC-F845-4FCF-957A-CC955BD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069-6FC0-4559-A4C9-A072173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9B4-BFBB-415A-AA97-6B84A1F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493-676C-4AF1-BC06-EC041403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4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25.wmf"/><Relationship Id="rId20" Type="http://schemas.openxmlformats.org/officeDocument/2006/relationships/image" Target="../media/image14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1.wmf"/><Relationship Id="rId25" Type="http://schemas.openxmlformats.org/officeDocument/2006/relationships/image" Target="../media/image26.wmf"/><Relationship Id="rId26" Type="http://schemas.openxmlformats.org/officeDocument/2006/relationships/image" Target="../media/image14.wmf"/><Relationship Id="rId27" Type="http://schemas.openxmlformats.org/officeDocument/2006/relationships/image" Target="../media/image21.wmf"/><Relationship Id="rId2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26.wmf"/><Relationship Id="rId4" Type="http://schemas.openxmlformats.org/officeDocument/2006/relationships/image" Target="../media/image20.wmf"/><Relationship Id="rId5" Type="http://schemas.openxmlformats.org/officeDocument/2006/relationships/image" Target="../media/image24.wmf"/><Relationship Id="rId6" Type="http://schemas.openxmlformats.org/officeDocument/2006/relationships/image" Target="../media/image26.wmf"/><Relationship Id="rId7" Type="http://schemas.openxmlformats.org/officeDocument/2006/relationships/image" Target="../media/image20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30.wmf"/><Relationship Id="rId23" Type="http://schemas.openxmlformats.org/officeDocument/2006/relationships/image" Target="../media/image14.wmf"/><Relationship Id="rId24" Type="http://schemas.openxmlformats.org/officeDocument/2006/relationships/image" Target="../media/image26.wmf"/><Relationship Id="rId25" Type="http://schemas.openxmlformats.org/officeDocument/2006/relationships/image" Target="../media/image20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7.wmf"/><Relationship Id="rId29" Type="http://schemas.openxmlformats.org/officeDocument/2006/relationships/image" Target="../media/image28.wmf"/><Relationship Id="rId30" Type="http://schemas.openxmlformats.org/officeDocument/2006/relationships/image" Target="../media/image27.wmf"/><Relationship Id="rId31" Type="http://schemas.openxmlformats.org/officeDocument/2006/relationships/image" Target="../media/image28.wmf"/><Relationship Id="rId32" Type="http://schemas.openxmlformats.org/officeDocument/2006/relationships/image" Target="../media/image27.wmf"/><Relationship Id="rId33" Type="http://schemas.openxmlformats.org/officeDocument/2006/relationships/image" Target="../media/image28.wmf"/><Relationship Id="rId34" Type="http://schemas.openxmlformats.org/officeDocument/2006/relationships/image" Target="../media/image27.wmf"/><Relationship Id="rId35" Type="http://schemas.openxmlformats.org/officeDocument/2006/relationships/image" Target="../media/image28.wmf"/><Relationship Id="rId36" Type="http://schemas.openxmlformats.org/officeDocument/2006/relationships/image" Target="../media/image27.wmf"/><Relationship Id="rId37" Type="http://schemas.openxmlformats.org/officeDocument/2006/relationships/image" Target="../media/image28.wmf"/><Relationship Id="rId38" Type="http://schemas.openxmlformats.org/officeDocument/2006/relationships/image" Target="../media/image31.wmf"/><Relationship Id="rId39" Type="http://schemas.openxmlformats.org/officeDocument/2006/relationships/image" Target="../media/image20.wmf"/><Relationship Id="rId40" Type="http://schemas.openxmlformats.org/officeDocument/2006/relationships/image" Target="../media/image32.wmf"/><Relationship Id="rId41" Type="http://schemas.openxmlformats.org/officeDocument/2006/relationships/image" Target="../media/image29.wmf"/><Relationship Id="rId42" Type="http://schemas.openxmlformats.org/officeDocument/2006/relationships/image" Target="../media/image30.wmf"/><Relationship Id="rId43" Type="http://schemas.openxmlformats.org/officeDocument/2006/relationships/image" Target="../media/image14.wmf"/><Relationship Id="rId44" Type="http://schemas.openxmlformats.org/officeDocument/2006/relationships/image" Target="../media/image26.wmf"/><Relationship Id="rId45" Type="http://schemas.openxmlformats.org/officeDocument/2006/relationships/image" Target="../media/image20.wmf"/><Relationship Id="rId46" Type="http://schemas.openxmlformats.org/officeDocument/2006/relationships/image" Target="../media/image31.wmf"/><Relationship Id="rId47" Type="http://schemas.openxmlformats.org/officeDocument/2006/relationships/image" Target="../media/image32.wmf"/><Relationship Id="rId48" Type="http://schemas.openxmlformats.org/officeDocument/2006/relationships/image" Target="../media/image20.wmf"/><Relationship Id="rId49" Type="http://schemas.openxmlformats.org/officeDocument/2006/relationships/image" Target="../media/image32.wmf"/><Relationship Id="rId50" Type="http://schemas.openxmlformats.org/officeDocument/2006/relationships/image" Target="../media/image33.wmf"/><Relationship Id="rId51" Type="http://schemas.openxmlformats.org/officeDocument/2006/relationships/image" Target="../media/image34.wmf"/><Relationship Id="rId52" Type="http://schemas.openxmlformats.org/officeDocument/2006/relationships/image" Target="../media/image34.wmf"/><Relationship Id="rId53" Type="http://schemas.openxmlformats.org/officeDocument/2006/relationships/image" Target="../media/image34.wmf"/><Relationship Id="rId54" Type="http://schemas.openxmlformats.org/officeDocument/2006/relationships/image" Target="../media/image34.wmf"/><Relationship Id="rId55" Type="http://schemas.openxmlformats.org/officeDocument/2006/relationships/image" Target="../media/image34.wmf"/><Relationship Id="rId56" Type="http://schemas.openxmlformats.org/officeDocument/2006/relationships/image" Target="../media/image34.wmf"/><Relationship Id="rId57" Type="http://schemas.openxmlformats.org/officeDocument/2006/relationships/image" Target="../media/image34.wmf"/><Relationship Id="rId58" Type="http://schemas.openxmlformats.org/officeDocument/2006/relationships/image" Target="../media/image34.wmf"/><Relationship Id="rId59" Type="http://schemas.openxmlformats.org/officeDocument/2006/relationships/image" Target="../media/image34.wmf"/><Relationship Id="rId60" Type="http://schemas.openxmlformats.org/officeDocument/2006/relationships/image" Target="../media/image34.wmf"/><Relationship Id="rId61" Type="http://schemas.openxmlformats.org/officeDocument/2006/relationships/image" Target="../media/image34.wmf"/><Relationship Id="rId62" Type="http://schemas.openxmlformats.org/officeDocument/2006/relationships/image" Target="../media/image34.wmf"/><Relationship Id="rId63" Type="http://schemas.openxmlformats.org/officeDocument/2006/relationships/image" Target="../media/image34.wmf"/><Relationship Id="rId64" Type="http://schemas.openxmlformats.org/officeDocument/2006/relationships/image" Target="../media/image34.wmf"/><Relationship Id="rId65" Type="http://schemas.openxmlformats.org/officeDocument/2006/relationships/image" Target="../media/image34.wmf"/><Relationship Id="rId66" Type="http://schemas.openxmlformats.org/officeDocument/2006/relationships/image" Target="../media/image34.wmf"/><Relationship Id="rId67" Type="http://schemas.openxmlformats.org/officeDocument/2006/relationships/image" Target="../media/image34.wmf"/><Relationship Id="rId68" Type="http://schemas.openxmlformats.org/officeDocument/2006/relationships/image" Target="../media/image34.wmf"/><Relationship Id="rId69" Type="http://schemas.openxmlformats.org/officeDocument/2006/relationships/image" Target="../media/image34.wmf"/><Relationship Id="rId70" Type="http://schemas.openxmlformats.org/officeDocument/2006/relationships/image" Target="../media/image34.wmf"/><Relationship Id="rId71" Type="http://schemas.openxmlformats.org/officeDocument/2006/relationships/image" Target="../media/image34.wmf"/><Relationship Id="rId72" Type="http://schemas.openxmlformats.org/officeDocument/2006/relationships/image" Target="../media/image34.wmf"/><Relationship Id="rId73" Type="http://schemas.openxmlformats.org/officeDocument/2006/relationships/image" Target="../media/image34.wmf"/><Relationship Id="rId74" Type="http://schemas.openxmlformats.org/officeDocument/2006/relationships/image" Target="../media/image34.wmf"/><Relationship Id="rId75" Type="http://schemas.openxmlformats.org/officeDocument/2006/relationships/image" Target="../media/image34.wmf"/><Relationship Id="rId76" Type="http://schemas.openxmlformats.org/officeDocument/2006/relationships/image" Target="../media/image34.wmf"/><Relationship Id="rId77" Type="http://schemas.openxmlformats.org/officeDocument/2006/relationships/image" Target="../media/image34.wmf"/><Relationship Id="rId78" Type="http://schemas.openxmlformats.org/officeDocument/2006/relationships/image" Target="../media/image34.wmf"/><Relationship Id="rId79" Type="http://schemas.openxmlformats.org/officeDocument/2006/relationships/image" Target="../media/image34.wmf"/><Relationship Id="rId80" Type="http://schemas.openxmlformats.org/officeDocument/2006/relationships/image" Target="../media/image34.wmf"/><Relationship Id="rId81" Type="http://schemas.openxmlformats.org/officeDocument/2006/relationships/image" Target="../media/image34.wmf"/><Relationship Id="rId82" Type="http://schemas.openxmlformats.org/officeDocument/2006/relationships/image" Target="../media/image34.wmf"/><Relationship Id="rId83" Type="http://schemas.openxmlformats.org/officeDocument/2006/relationships/image" Target="../media/image34.wmf"/><Relationship Id="rId8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179" b="0"/>
          <a:stretch/>
        </p:blipFill>
        <p:spPr>
          <a:xfrm>
            <a:off x="4016520" y="4911840"/>
            <a:ext cx="403848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- th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9240" y="1503360"/>
            <a:ext cx="39369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ber grows 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sawn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bility of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ing and handling 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imber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d woo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6840" y="5349960"/>
            <a:ext cx="1781280" cy="14587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74880" y="6296040"/>
            <a:ext cx="508140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19990" t="0" r="9296" b="2711"/>
          <a:stretch/>
        </p:blipFill>
        <p:spPr>
          <a:xfrm>
            <a:off x="155520" y="3111480"/>
            <a:ext cx="20592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6963" b="5085"/>
          <a:stretch/>
        </p:blipFill>
        <p:spPr>
          <a:xfrm>
            <a:off x="7184880" y="71280"/>
            <a:ext cx="189072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334200" y="3833640"/>
            <a:ext cx="276552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63360" y="136440"/>
            <a:ext cx="1843200" cy="27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5977080" y="1951200"/>
            <a:ext cx="2628720" cy="17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2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26960" y="1608120"/>
            <a:ext cx="2232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4587120" y="1733400"/>
            <a:ext cx="2899440" cy="2648880"/>
            <a:chOff x="4587120" y="1733400"/>
            <a:chExt cx="2899440" cy="2648880"/>
          </a:xfrm>
        </p:grpSpPr>
        <p:sp>
          <p:nvSpPr>
            <p:cNvPr id="355" name=""/>
            <p:cNvSpPr/>
            <p:nvPr/>
          </p:nvSpPr>
          <p:spPr>
            <a:xfrm>
              <a:off x="5029200" y="1733400"/>
              <a:ext cx="2457360" cy="14288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87120" y="1901880"/>
              <a:ext cx="2777400" cy="2480400"/>
              <a:chOff x="4587120" y="1901880"/>
              <a:chExt cx="2777400" cy="2480400"/>
            </a:xfrm>
          </p:grpSpPr>
          <p:pic>
            <p:nvPicPr>
              <p:cNvPr id="3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2520" y="190188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19164000">
                <a:off x="4552920" y="3619080"/>
                <a:ext cx="1314360" cy="381240"/>
              </a:xfrm>
              <a:prstGeom prst="rightArrow">
                <a:avLst>
                  <a:gd name="adj1" fmla="val 50000"/>
                  <a:gd name="adj2" fmla="val 8619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1440" y="39560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-barked l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131560" y="3416040"/>
            <a:ext cx="3088080" cy="3444480"/>
            <a:chOff x="2131560" y="3416040"/>
            <a:chExt cx="3088080" cy="3444480"/>
          </a:xfrm>
        </p:grpSpPr>
        <p:sp>
          <p:nvSpPr>
            <p:cNvPr id="361" name=""/>
            <p:cNvSpPr/>
            <p:nvPr/>
          </p:nvSpPr>
          <p:spPr>
            <a:xfrm>
              <a:off x="2762280" y="4000680"/>
              <a:ext cx="2457360" cy="23047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131560" y="3416040"/>
              <a:ext cx="3034080" cy="3444480"/>
              <a:chOff x="2131560" y="3416040"/>
              <a:chExt cx="3034080" cy="3444480"/>
            </a:xfrm>
          </p:grpSpPr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7200" y="4005360"/>
                <a:ext cx="2368440" cy="22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211600">
                <a:off x="2114640" y="3772080"/>
                <a:ext cx="1314360" cy="380880"/>
              </a:xfrm>
              <a:prstGeom prst="rightArrow">
                <a:avLst>
                  <a:gd name="adj1" fmla="val 50000"/>
                  <a:gd name="adj2" fmla="val 8627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57680" y="640080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lit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05280" y="5810400"/>
                <a:ext cx="571320" cy="857160"/>
              </a:xfrm>
              <a:custGeom>
                <a:avLst/>
                <a:gdLst/>
                <a:ahLst/>
                <a:rect l="l" t="t" r="r" b="b"/>
                <a:pathLst>
                  <a:path w="360" h="540">
                    <a:moveTo>
                      <a:pt x="0" y="540"/>
                    </a:moveTo>
                    <a:lnTo>
                      <a:pt x="360" y="540"/>
                    </a:lnTo>
                    <a:lnTo>
                      <a:pt x="31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619080" y="5638680"/>
                <a:ext cx="838440" cy="10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6305400" y="2886480"/>
            <a:ext cx="2922480" cy="3726360"/>
            <a:chOff x="6305400" y="2886480"/>
            <a:chExt cx="2922480" cy="3726360"/>
          </a:xfrm>
        </p:grpSpPr>
        <p:sp>
          <p:nvSpPr>
            <p:cNvPr id="369" name=""/>
            <p:cNvSpPr/>
            <p:nvPr/>
          </p:nvSpPr>
          <p:spPr>
            <a:xfrm>
              <a:off x="6305400" y="4076640"/>
              <a:ext cx="2610000" cy="1314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381720" y="2886480"/>
              <a:ext cx="2846160" cy="3726360"/>
              <a:chOff x="6381720" y="2886480"/>
              <a:chExt cx="2846160" cy="3726360"/>
            </a:xfrm>
          </p:grpSpPr>
          <p:sp>
            <p:nvSpPr>
              <p:cNvPr id="371" name=""/>
              <p:cNvSpPr/>
              <p:nvPr/>
            </p:nvSpPr>
            <p:spPr>
              <a:xfrm>
                <a:off x="7639200" y="5105520"/>
                <a:ext cx="838080" cy="857160"/>
              </a:xfrm>
              <a:custGeom>
                <a:avLst/>
                <a:gdLst/>
                <a:ahLst/>
                <a:rect l="l" t="t" r="r" b="b"/>
                <a:pathLst>
                  <a:path w="528" h="540">
                    <a:moveTo>
                      <a:pt x="240" y="540"/>
                    </a:moveTo>
                    <a:lnTo>
                      <a:pt x="0" y="540"/>
                    </a:lnTo>
                    <a:lnTo>
                      <a:pt x="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81720" y="4062240"/>
                <a:ext cx="2475000" cy="13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 rot="3896400">
                <a:off x="6838920" y="3371760"/>
                <a:ext cx="1314360" cy="380880"/>
              </a:xfrm>
              <a:prstGeom prst="rightArrow">
                <a:avLst>
                  <a:gd name="adj1" fmla="val 50000"/>
                  <a:gd name="adj2" fmla="val 8627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6080" y="6153120"/>
                <a:ext cx="207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inged spli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47440" y="57340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ing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67560" y="5086440"/>
                <a:ext cx="571320" cy="1276200"/>
              </a:xfrm>
              <a:custGeom>
                <a:avLst/>
                <a:gdLst/>
                <a:ahLst/>
                <a:rect l="l" t="t" r="r" b="b"/>
                <a:pathLst>
                  <a:path w="360" h="804">
                    <a:moveTo>
                      <a:pt x="240" y="804"/>
                    </a:moveTo>
                    <a:lnTo>
                      <a:pt x="0" y="804"/>
                    </a:lnTo>
                    <a:lnTo>
                      <a:pt x="36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6705360" y="5048280"/>
                <a:ext cx="933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189720" y="5749920"/>
            <a:ext cx="2433240" cy="825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s - p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n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6040" y="3257640"/>
            <a:ext cx="5780160" cy="205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3 - green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sawn or quarter s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more pieces in most popula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876240" y="3543480"/>
            <a:ext cx="1638360" cy="1638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678040" y="34592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637160" y="3479760"/>
            <a:ext cx="16970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96120" y="4552920"/>
            <a:ext cx="9047880" cy="2305080"/>
            <a:chOff x="96120" y="4552920"/>
            <a:chExt cx="9047880" cy="2305080"/>
          </a:xfrm>
        </p:grpSpPr>
        <p:sp>
          <p:nvSpPr>
            <p:cNvPr id="386" name=""/>
            <p:cNvSpPr/>
            <p:nvPr/>
          </p:nvSpPr>
          <p:spPr>
            <a:xfrm>
              <a:off x="96120" y="5749920"/>
              <a:ext cx="3007800" cy="45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easoned tim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91560" y="5749920"/>
              <a:ext cx="2990880" cy="825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ck for seaso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milled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38920" y="4552920"/>
              <a:ext cx="2305080" cy="230508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r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05400" y="5981760"/>
              <a:ext cx="1200240" cy="380880"/>
            </a:xfrm>
            <a:prstGeom prst="rightArrow">
              <a:avLst>
                <a:gd name="adj1" fmla="val 50000"/>
                <a:gd name="adj2" fmla="val 7878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sawing - Quarter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rings parallel to shor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grain shows o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wearing surface for floors, furn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face preferred for co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dth shrinkage on d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upping and warp than other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uccessfully recondi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19880" y="3105000"/>
            <a:ext cx="2571840" cy="2381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599160" y="32162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197320" y="5029200"/>
            <a:ext cx="654120" cy="182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653160" y="18464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tructural ti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4520" y="4229280"/>
            <a:ext cx="2718000" cy="895320"/>
          </a:xfrm>
          <a:custGeom>
            <a:avLst/>
            <a:gdLst/>
            <a:ahLst/>
            <a:rect l="l" t="t" r="r" b="b"/>
            <a:pathLst>
              <a:path w="1712" h="564">
                <a:moveTo>
                  <a:pt x="1560" y="0"/>
                </a:moveTo>
                <a:cubicBezTo>
                  <a:pt x="1636" y="91"/>
                  <a:pt x="1712" y="182"/>
                  <a:pt x="1452" y="276"/>
                </a:cubicBezTo>
                <a:cubicBezTo>
                  <a:pt x="1192" y="370"/>
                  <a:pt x="596" y="467"/>
                  <a:pt x="0" y="56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-114480" y="5315040"/>
            <a:ext cx="6191280" cy="1657440"/>
            <a:chOff x="-114480" y="5315040"/>
            <a:chExt cx="6191280" cy="1657440"/>
          </a:xfrm>
        </p:grpSpPr>
        <p:sp>
          <p:nvSpPr>
            <p:cNvPr id="398" name=""/>
            <p:cNvSpPr/>
            <p:nvPr/>
          </p:nvSpPr>
          <p:spPr>
            <a:xfrm>
              <a:off x="-114480" y="5315040"/>
              <a:ext cx="2305080" cy="165744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easo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5040" y="5886360"/>
              <a:ext cx="3371760" cy="685800"/>
            </a:xfrm>
            <a:prstGeom prst="rightArrow">
              <a:avLst>
                <a:gd name="adj1" fmla="val 50000"/>
                <a:gd name="adj2" fmla="val 12291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1520" y="6049800"/>
              <a:ext cx="36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- on to further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139760" y="4616280"/>
            <a:ext cx="77724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s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ling on face more prone to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sawing - Back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parallel to long edge of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 more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igure o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prone to splitting when n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section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nots on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05440" y="1962000"/>
            <a:ext cx="2895840" cy="2381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9960" y="48006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tructural ti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256440" y="20462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8575560" y="4851360"/>
            <a:ext cx="182520" cy="698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H="1" flipV="1">
            <a:off x="8004240" y="3314880"/>
            <a:ext cx="606240" cy="1581120"/>
          </a:xfrm>
          <a:custGeom>
            <a:avLst/>
            <a:gdLst/>
            <a:ahLst/>
            <a:rect l="l" t="t" r="r" b="b"/>
            <a:pathLst>
              <a:path w="698" h="1308">
                <a:moveTo>
                  <a:pt x="516" y="1308"/>
                </a:moveTo>
                <a:cubicBezTo>
                  <a:pt x="607" y="1201"/>
                  <a:pt x="698" y="1094"/>
                  <a:pt x="612" y="876"/>
                </a:cubicBezTo>
                <a:cubicBezTo>
                  <a:pt x="526" y="658"/>
                  <a:pt x="263" y="329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5200560"/>
            <a:ext cx="6191280" cy="1657440"/>
            <a:chOff x="0" y="5200560"/>
            <a:chExt cx="6191280" cy="1657440"/>
          </a:xfrm>
        </p:grpSpPr>
        <p:sp>
          <p:nvSpPr>
            <p:cNvPr id="410" name=""/>
            <p:cNvSpPr/>
            <p:nvPr/>
          </p:nvSpPr>
          <p:spPr>
            <a:xfrm>
              <a:off x="0" y="5200560"/>
              <a:ext cx="2305080" cy="165744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easo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5771880"/>
              <a:ext cx="3371760" cy="685800"/>
            </a:xfrm>
            <a:prstGeom prst="rightArrow">
              <a:avLst>
                <a:gd name="adj1" fmla="val 50000"/>
                <a:gd name="adj2" fmla="val 12291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86000" y="5935320"/>
              <a:ext cx="36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- on to further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149480" y="4243320"/>
            <a:ext cx="77724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 more across width when d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warp and 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psed timber more difficult to re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5 - Dry M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7840" y="1600200"/>
            <a:ext cx="777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d, Planed, Profil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-sawn and seasoned product passed though planer to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cross sectional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021200" y="2351160"/>
            <a:ext cx="4960800" cy="1984320"/>
            <a:chOff x="4021200" y="2351160"/>
            <a:chExt cx="4960800" cy="1984320"/>
          </a:xfrm>
        </p:grpSpPr>
        <p:pic>
          <p:nvPicPr>
            <p:cNvPr id="417" name="" descr=""/>
            <p:cNvPicPr/>
            <p:nvPr/>
          </p:nvPicPr>
          <p:blipFill>
            <a:blip r:embed="rId1">
              <a:lum bright="30000"/>
            </a:blip>
            <a:srcRect l="0" t="1935" r="0" b="0"/>
            <a:stretch/>
          </p:blipFill>
          <p:spPr>
            <a:xfrm>
              <a:off x="6108840" y="2401920"/>
              <a:ext cx="2873160" cy="193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8" name="" descr=""/>
            <p:cNvPicPr/>
            <p:nvPr/>
          </p:nvPicPr>
          <p:blipFill>
            <a:blip r:embed="rId2">
              <a:lum bright="24000"/>
            </a:blip>
            <a:stretch/>
          </p:blipFill>
          <p:spPr>
            <a:xfrm>
              <a:off x="4021200" y="2351160"/>
              <a:ext cx="183816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518000" y="2857680"/>
              <a:ext cx="722160" cy="47592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38720" y="2962440"/>
              <a:ext cx="1685880" cy="203040"/>
            </a:xfrm>
            <a:custGeom>
              <a:avLst/>
              <a:gdLst/>
              <a:ahLst/>
              <a:rect l="l" t="t" r="r" b="b"/>
              <a:pathLst>
                <a:path w="535" h="250">
                  <a:moveTo>
                    <a:pt x="0" y="64"/>
                  </a:moveTo>
                  <a:cubicBezTo>
                    <a:pt x="114" y="32"/>
                    <a:pt x="228" y="0"/>
                    <a:pt x="317" y="31"/>
                  </a:cubicBezTo>
                  <a:cubicBezTo>
                    <a:pt x="406" y="62"/>
                    <a:pt x="470" y="156"/>
                    <a:pt x="535" y="250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9280" y="3949560"/>
            <a:ext cx="77724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potential problem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lengths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weakness eg spl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ance eg large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eg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>
            <a:lum bright="6000"/>
          </a:blip>
          <a:srcRect l="3679" t="0" r="0" b="0"/>
          <a:stretch/>
        </p:blipFill>
        <p:spPr>
          <a:xfrm>
            <a:off x="4792680" y="3830760"/>
            <a:ext cx="232740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Grows on Tre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480" y="15429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of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ing logs to give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8680" y="5753160"/>
            <a:ext cx="3297240" cy="849240"/>
            <a:chOff x="328680" y="5753160"/>
            <a:chExt cx="3297240" cy="84924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28680" y="5753160"/>
              <a:ext cx="856080" cy="849240"/>
            </a:xfrm>
            <a:prstGeom prst="rect">
              <a:avLst/>
            </a:prstGeom>
            <a:ln w="9360">
              <a:solidFill>
                <a:srgbClr val="4d4d4d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183320" y="6303960"/>
              <a:ext cx="2442600" cy="2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3"/>
          <a:srcRect l="0" t="24637" r="0" b="0"/>
          <a:stretch/>
        </p:blipFill>
        <p:spPr>
          <a:xfrm>
            <a:off x="5151600" y="1584360"/>
            <a:ext cx="380988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>
            <a:lum bright="12000"/>
          </a:blip>
          <a:srcRect l="4274" t="21039" r="26420" b="0"/>
          <a:stretch/>
        </p:blipFill>
        <p:spPr>
          <a:xfrm>
            <a:off x="6645240" y="4800600"/>
            <a:ext cx="2498760" cy="18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56280" y="3660840"/>
            <a:ext cx="292248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675240" y="5041800"/>
            <a:ext cx="2643120" cy="17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551480" y="3755880"/>
            <a:ext cx="2163600" cy="14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3840" y="762120"/>
            <a:ext cx="3201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2920" y="1193760"/>
            <a:ext cx="8101080" cy="5664240"/>
            <a:chOff x="1042920" y="1193760"/>
            <a:chExt cx="8101080" cy="5664240"/>
          </a:xfrm>
        </p:grpSpPr>
        <p:sp>
          <p:nvSpPr>
            <p:cNvPr id="63" name=""/>
            <p:cNvSpPr/>
            <p:nvPr/>
          </p:nvSpPr>
          <p:spPr>
            <a:xfrm>
              <a:off x="1042920" y="1193760"/>
              <a:ext cx="810108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059440" y="1417680"/>
              <a:ext cx="4021200" cy="32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276800" y="3241800"/>
              <a:ext cx="125244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1976400" y="4000680"/>
              <a:ext cx="10000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979880" y="4284720"/>
              <a:ext cx="33577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1363680" y="1274760"/>
              <a:ext cx="3786120" cy="48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300480" y="2232000"/>
              <a:ext cx="4021200" cy="32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3171960" y="3503520"/>
              <a:ext cx="3570120" cy="30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6435720" y="3662280"/>
              <a:ext cx="171144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4813200" y="3397320"/>
              <a:ext cx="2706840" cy="31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3639960" y="4162320"/>
              <a:ext cx="171144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1190520" y="2997360"/>
              <a:ext cx="1711440" cy="23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1455840" y="3584520"/>
              <a:ext cx="2598480" cy="304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455920" y="2143080"/>
            <a:ext cx="3036960" cy="4390920"/>
            <a:chOff x="2455920" y="2143080"/>
            <a:chExt cx="3036960" cy="4390920"/>
          </a:xfrm>
        </p:grpSpPr>
        <p:sp>
          <p:nvSpPr>
            <p:cNvPr id="77" name=""/>
            <p:cNvSpPr/>
            <p:nvPr/>
          </p:nvSpPr>
          <p:spPr>
            <a:xfrm>
              <a:off x="4238640" y="3654360"/>
              <a:ext cx="1254240" cy="28796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5920" y="2143080"/>
              <a:ext cx="1495440" cy="4089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93760" y="1465200"/>
            <a:ext cx="7950240" cy="3882600"/>
            <a:chOff x="1193760" y="1465200"/>
            <a:chExt cx="7950240" cy="3882600"/>
          </a:xfrm>
        </p:grpSpPr>
        <p:sp>
          <p:nvSpPr>
            <p:cNvPr id="80" name=""/>
            <p:cNvSpPr/>
            <p:nvPr/>
          </p:nvSpPr>
          <p:spPr>
            <a:xfrm rot="1190400">
              <a:off x="7507080" y="3865680"/>
              <a:ext cx="457200" cy="1447560"/>
            </a:xfrm>
            <a:prstGeom prst="upArrow">
              <a:avLst>
                <a:gd name="adj1" fmla="val 50000"/>
                <a:gd name="adj2" fmla="val 79154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281400" y="1465200"/>
              <a:ext cx="3848040" cy="1591560"/>
              <a:chOff x="3281400" y="1465200"/>
              <a:chExt cx="3848040" cy="1591560"/>
            </a:xfrm>
          </p:grpSpPr>
          <p:sp>
            <p:nvSpPr>
              <p:cNvPr id="82" name=""/>
              <p:cNvSpPr/>
              <p:nvPr/>
            </p:nvSpPr>
            <p:spPr>
              <a:xfrm rot="19243800">
                <a:off x="4272120" y="1922040"/>
                <a:ext cx="380880" cy="1143000"/>
              </a:xfrm>
              <a:prstGeom prst="downArrow">
                <a:avLst>
                  <a:gd name="adj1" fmla="val 50000"/>
                  <a:gd name="adj2" fmla="val 75024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666000">
                <a:off x="6100560" y="1922400"/>
                <a:ext cx="380880" cy="1067040"/>
              </a:xfrm>
              <a:prstGeom prst="downArrow">
                <a:avLst>
                  <a:gd name="adj1" fmla="val 50000"/>
                  <a:gd name="adj2" fmla="val 70038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81400" y="14652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291360" y="20178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6629400" y="3083040"/>
              <a:ext cx="2514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emitted as rotting occ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283400">
              <a:off x="1595520" y="3246120"/>
              <a:ext cx="457200" cy="1447920"/>
            </a:xfrm>
            <a:prstGeom prst="upArrow">
              <a:avLst>
                <a:gd name="adj1" fmla="val 50000"/>
                <a:gd name="adj2" fmla="val 79173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59080" y="323856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042920" y="244440"/>
            <a:ext cx="8101080" cy="6613560"/>
            <a:chOff x="1042920" y="244440"/>
            <a:chExt cx="8101080" cy="6613560"/>
          </a:xfrm>
        </p:grpSpPr>
        <p:sp>
          <p:nvSpPr>
            <p:cNvPr id="90" name=""/>
            <p:cNvSpPr/>
            <p:nvPr/>
          </p:nvSpPr>
          <p:spPr>
            <a:xfrm>
              <a:off x="1042920" y="1193760"/>
              <a:ext cx="810108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3"/>
            <a:stretch/>
          </p:blipFill>
          <p:spPr>
            <a:xfrm>
              <a:off x="5383080" y="4618080"/>
              <a:ext cx="126684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4"/>
            <a:stretch/>
          </p:blipFill>
          <p:spPr>
            <a:xfrm>
              <a:off x="1308240" y="2286000"/>
              <a:ext cx="2695320" cy="39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5"/>
            <a:stretch/>
          </p:blipFill>
          <p:spPr>
            <a:xfrm>
              <a:off x="4535640" y="244440"/>
              <a:ext cx="3430440" cy="446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6"/>
            <a:srcRect l="0" t="0" r="22999" b="0"/>
            <a:stretch/>
          </p:blipFill>
          <p:spPr>
            <a:xfrm>
              <a:off x="6502320" y="487440"/>
              <a:ext cx="2641680" cy="44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7"/>
            <a:stretch/>
          </p:blipFill>
          <p:spPr>
            <a:xfrm>
              <a:off x="4276800" y="3241800"/>
              <a:ext cx="125244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8"/>
            <a:stretch/>
          </p:blipFill>
          <p:spPr>
            <a:xfrm>
              <a:off x="1976400" y="4000680"/>
              <a:ext cx="10000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9"/>
            <a:stretch/>
          </p:blipFill>
          <p:spPr>
            <a:xfrm>
              <a:off x="4834080" y="3594240"/>
              <a:ext cx="173664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0"/>
            <a:stretch/>
          </p:blipFill>
          <p:spPr>
            <a:xfrm>
              <a:off x="3300480" y="1203480"/>
              <a:ext cx="4021200" cy="43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1"/>
            <a:stretch/>
          </p:blipFill>
          <p:spPr>
            <a:xfrm>
              <a:off x="3171960" y="2400480"/>
              <a:ext cx="3570120" cy="41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2"/>
            <a:stretch/>
          </p:blipFill>
          <p:spPr>
            <a:xfrm>
              <a:off x="7162920" y="3209760"/>
              <a:ext cx="171108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3"/>
            <a:stretch/>
          </p:blipFill>
          <p:spPr>
            <a:xfrm>
              <a:off x="5527800" y="2717640"/>
              <a:ext cx="2841480" cy="33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4"/>
            <a:stretch/>
          </p:blipFill>
          <p:spPr>
            <a:xfrm>
              <a:off x="4813200" y="3397320"/>
              <a:ext cx="2706840" cy="31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5"/>
            <a:stretch/>
          </p:blipFill>
          <p:spPr>
            <a:xfrm>
              <a:off x="3381480" y="3282840"/>
              <a:ext cx="2232000" cy="31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6"/>
            <a:stretch/>
          </p:blipFill>
          <p:spPr>
            <a:xfrm>
              <a:off x="1058760" y="2098800"/>
              <a:ext cx="1900440" cy="33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7"/>
            <a:stretch/>
          </p:blipFill>
          <p:spPr>
            <a:xfrm>
              <a:off x="1455840" y="2979720"/>
              <a:ext cx="2598480" cy="364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2487600" y="2238480"/>
            <a:ext cx="3036960" cy="4390920"/>
            <a:chOff x="2487600" y="2238480"/>
            <a:chExt cx="3036960" cy="4390920"/>
          </a:xfrm>
        </p:grpSpPr>
        <p:sp>
          <p:nvSpPr>
            <p:cNvPr id="107" name=""/>
            <p:cNvSpPr/>
            <p:nvPr/>
          </p:nvSpPr>
          <p:spPr>
            <a:xfrm>
              <a:off x="4270320" y="2948040"/>
              <a:ext cx="1254240" cy="36813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7600" y="2238480"/>
              <a:ext cx="1495440" cy="4089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09520" y="1238400"/>
            <a:ext cx="7837560" cy="5445360"/>
            <a:chOff x="1109520" y="1238400"/>
            <a:chExt cx="7837560" cy="5445360"/>
          </a:xfrm>
        </p:grpSpPr>
        <p:sp>
          <p:nvSpPr>
            <p:cNvPr id="110" name=""/>
            <p:cNvSpPr/>
            <p:nvPr/>
          </p:nvSpPr>
          <p:spPr>
            <a:xfrm>
              <a:off x="1109520" y="1238400"/>
              <a:ext cx="2514600" cy="119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rge trees die by losing leaves then falling 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221000" y="1353960"/>
              <a:ext cx="3353040" cy="1820160"/>
              <a:chOff x="4221000" y="1353960"/>
              <a:chExt cx="3353040" cy="1820160"/>
            </a:xfrm>
          </p:grpSpPr>
          <p:sp>
            <p:nvSpPr>
              <p:cNvPr id="112" name=""/>
              <p:cNvSpPr/>
              <p:nvPr/>
            </p:nvSpPr>
            <p:spPr>
              <a:xfrm rot="19243800">
                <a:off x="5211720" y="2039400"/>
                <a:ext cx="380880" cy="1143000"/>
              </a:xfrm>
              <a:prstGeom prst="downArrow">
                <a:avLst>
                  <a:gd name="adj1" fmla="val 50000"/>
                  <a:gd name="adj2" fmla="val 75024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66000">
                <a:off x="7040160" y="2039760"/>
                <a:ext cx="380880" cy="1067040"/>
              </a:xfrm>
              <a:prstGeom prst="downArrow">
                <a:avLst>
                  <a:gd name="adj1" fmla="val 50000"/>
                  <a:gd name="adj2" fmla="val 70038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1000" y="1582560"/>
                <a:ext cx="838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be0e3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bbe0e3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35600" y="1353960"/>
                <a:ext cx="838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be0e3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bbe0e3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0046000">
              <a:off x="2263320" y="2771280"/>
              <a:ext cx="457200" cy="1447920"/>
            </a:xfrm>
            <a:prstGeom prst="upArrow">
              <a:avLst>
                <a:gd name="adj1" fmla="val 50000"/>
                <a:gd name="adj2" fmla="val 79173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74800">
              <a:off x="6179760" y="3617640"/>
              <a:ext cx="457200" cy="1447560"/>
            </a:xfrm>
            <a:prstGeom prst="upArrow">
              <a:avLst>
                <a:gd name="adj1" fmla="val 50000"/>
                <a:gd name="adj2" fmla="val 79154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32480" y="5442120"/>
              <a:ext cx="2514600" cy="124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 absorb lots of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90720" y="793800"/>
            <a:ext cx="38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ouched/nativ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3680" y="5567400"/>
            <a:ext cx="5334120" cy="1169280"/>
          </a:xfrm>
          <a:prstGeom prst="rect">
            <a:avLst/>
          </a:pr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n ~ carbo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84960" y="838080"/>
            <a:ext cx="3201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3840" y="838080"/>
            <a:ext cx="3201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73160" y="1193760"/>
            <a:ext cx="7893000" cy="5664240"/>
            <a:chOff x="1073160" y="1193760"/>
            <a:chExt cx="7893000" cy="5664240"/>
          </a:xfrm>
        </p:grpSpPr>
        <p:sp>
          <p:nvSpPr>
            <p:cNvPr id="124" name=""/>
            <p:cNvSpPr/>
            <p:nvPr/>
          </p:nvSpPr>
          <p:spPr>
            <a:xfrm>
              <a:off x="10731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05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792440" y="2084400"/>
              <a:ext cx="30081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459080" y="3095640"/>
              <a:ext cx="30081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173240" y="294948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2014560" y="4114800"/>
              <a:ext cx="10461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1106640" y="2206800"/>
              <a:ext cx="3006720" cy="39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487600" y="305424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389400" y="4392720"/>
              <a:ext cx="1243080" cy="167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6545160" y="2525760"/>
              <a:ext cx="2421000" cy="2545920"/>
              <a:chOff x="6545160" y="2525760"/>
              <a:chExt cx="2421000" cy="25459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45160" y="2525760"/>
                <a:ext cx="662040" cy="15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56200" y="2542320"/>
                <a:ext cx="947880" cy="18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91240" y="2831400"/>
                <a:ext cx="774720" cy="18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81840" y="2937960"/>
                <a:ext cx="108432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"/>
            <p:cNvGrpSpPr/>
            <p:nvPr/>
          </p:nvGrpSpPr>
          <p:grpSpPr>
            <a:xfrm>
              <a:off x="5902200" y="2825640"/>
              <a:ext cx="2421000" cy="2682720"/>
              <a:chOff x="5902200" y="2825640"/>
              <a:chExt cx="2421000" cy="268272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2200" y="2825640"/>
                <a:ext cx="662040" cy="165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3240" y="2843280"/>
                <a:ext cx="947880" cy="196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48280" y="3147840"/>
                <a:ext cx="774720" cy="19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38880" y="3260160"/>
                <a:ext cx="1084320" cy="2248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5259240" y="3262320"/>
              <a:ext cx="2421000" cy="2879640"/>
              <a:chOff x="5259240" y="3262320"/>
              <a:chExt cx="2421000" cy="28796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59240" y="3262320"/>
                <a:ext cx="662040" cy="17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70280" y="3281400"/>
                <a:ext cx="947880" cy="21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205320" y="3608280"/>
                <a:ext cx="774720" cy="207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595920" y="3728880"/>
                <a:ext cx="1084320" cy="241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"/>
            <p:cNvSpPr/>
            <p:nvPr/>
          </p:nvSpPr>
          <p:spPr>
            <a:xfrm>
              <a:off x="5833080" y="6172200"/>
              <a:ext cx="26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trees pla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45440" y="61722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38320" y="781200"/>
            <a:ext cx="36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d Nativ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4320" y="797040"/>
            <a:ext cx="36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31280" y="1328760"/>
            <a:ext cx="6823800" cy="1471680"/>
            <a:chOff x="1331280" y="1328760"/>
            <a:chExt cx="6823800" cy="1471680"/>
          </a:xfrm>
        </p:grpSpPr>
        <p:sp>
          <p:nvSpPr>
            <p:cNvPr id="153" name=""/>
            <p:cNvSpPr/>
            <p:nvPr/>
          </p:nvSpPr>
          <p:spPr>
            <a:xfrm>
              <a:off x="2434320" y="170964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0920" y="132876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347200">
              <a:off x="1544400" y="14047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4600" y="1757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560" y="137628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347200">
              <a:off x="5944680" y="145224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74600" y="1135080"/>
            <a:ext cx="7893360" cy="5722920"/>
            <a:chOff x="1074600" y="1135080"/>
            <a:chExt cx="7893360" cy="5722920"/>
          </a:xfrm>
        </p:grpSpPr>
        <p:sp>
          <p:nvSpPr>
            <p:cNvPr id="160" name=""/>
            <p:cNvSpPr/>
            <p:nvPr/>
          </p:nvSpPr>
          <p:spPr>
            <a:xfrm>
              <a:off x="107460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2360" y="1193760"/>
              <a:ext cx="373356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076400" y="1135080"/>
              <a:ext cx="7891560" cy="5722920"/>
              <a:chOff x="1076400" y="1135080"/>
              <a:chExt cx="7891560" cy="57229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417680" y="1390680"/>
                <a:ext cx="2536920" cy="32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21"/>
              <a:srcRect l="0" t="0" r="22093" b="0"/>
              <a:stretch/>
            </p:blipFill>
            <p:spPr>
              <a:xfrm>
                <a:off x="2809800" y="1693800"/>
                <a:ext cx="1976400" cy="32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2"/>
              <a:srcRect l="9880" t="0" r="4977" b="0"/>
              <a:stretch/>
            </p:blipFill>
            <p:spPr>
              <a:xfrm>
                <a:off x="1108080" y="2577960"/>
                <a:ext cx="3638520" cy="348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460520" y="3095640"/>
                <a:ext cx="3008160" cy="245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489040" y="3054240"/>
                <a:ext cx="2232360" cy="283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390840" y="3591000"/>
                <a:ext cx="1243080" cy="2471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" name=""/>
              <p:cNvGrpSpPr/>
              <p:nvPr/>
            </p:nvGrpSpPr>
            <p:grpSpPr>
              <a:xfrm>
                <a:off x="6546960" y="1135080"/>
                <a:ext cx="2421000" cy="3936240"/>
                <a:chOff x="6546960" y="1135080"/>
                <a:chExt cx="2421000" cy="393624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546960" y="1135080"/>
                  <a:ext cx="662040" cy="242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858000" y="1161000"/>
                  <a:ext cx="947880" cy="288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93040" y="1607760"/>
                  <a:ext cx="774720" cy="283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883640" y="1772640"/>
                  <a:ext cx="1084320" cy="32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4" name=""/>
              <p:cNvGrpSpPr/>
              <p:nvPr/>
            </p:nvGrpSpPr>
            <p:grpSpPr>
              <a:xfrm>
                <a:off x="5904000" y="1238400"/>
                <a:ext cx="2421000" cy="4269600"/>
                <a:chOff x="5904000" y="1238400"/>
                <a:chExt cx="2421000" cy="426960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5904000" y="1238400"/>
                  <a:ext cx="662040" cy="262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6215040" y="1266480"/>
                  <a:ext cx="947880" cy="312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6850080" y="1751400"/>
                  <a:ext cx="774720" cy="307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240680" y="1929960"/>
                  <a:ext cx="1084320" cy="35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9" name=""/>
              <p:cNvGrpSpPr/>
              <p:nvPr/>
            </p:nvGrpSpPr>
            <p:grpSpPr>
              <a:xfrm>
                <a:off x="5261040" y="1901880"/>
                <a:ext cx="2421000" cy="4239720"/>
                <a:chOff x="5261040" y="1901880"/>
                <a:chExt cx="2421000" cy="423972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261040" y="1901880"/>
                  <a:ext cx="662040" cy="261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5572080" y="1929960"/>
                  <a:ext cx="947880" cy="310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207120" y="2410920"/>
                  <a:ext cx="774720" cy="305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597720" y="2588760"/>
                  <a:ext cx="1084320" cy="355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076400" y="5245200"/>
                <a:ext cx="1639800" cy="16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168560" y="4554360"/>
                <a:ext cx="1046160" cy="14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00080" y="3457440"/>
                <a:ext cx="1808280" cy="229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" name=""/>
          <p:cNvGrpSpPr/>
          <p:nvPr/>
        </p:nvGrpSpPr>
        <p:grpSpPr>
          <a:xfrm>
            <a:off x="957960" y="1298520"/>
            <a:ext cx="7981200" cy="5380200"/>
            <a:chOff x="957960" y="1298520"/>
            <a:chExt cx="7981200" cy="5380200"/>
          </a:xfrm>
        </p:grpSpPr>
        <p:sp>
          <p:nvSpPr>
            <p:cNvPr id="188" name=""/>
            <p:cNvSpPr/>
            <p:nvPr/>
          </p:nvSpPr>
          <p:spPr>
            <a:xfrm>
              <a:off x="6118920" y="61722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36760" y="5853240"/>
              <a:ext cx="316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vesting trees removes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6920" y="16794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63880" y="129852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347200">
              <a:off x="1287000" y="137448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92600">
              <a:off x="4030560" y="137448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0880" y="1801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97840" y="14209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347200">
              <a:off x="5520960" y="1496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792600">
              <a:off x="8264520" y="1496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720400">
              <a:off x="1339200" y="5168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20600" y="1163520"/>
            <a:ext cx="7901280" cy="5694480"/>
            <a:chOff x="1020600" y="1163520"/>
            <a:chExt cx="7901280" cy="5694480"/>
          </a:xfrm>
        </p:grpSpPr>
        <p:sp>
          <p:nvSpPr>
            <p:cNvPr id="200" name=""/>
            <p:cNvSpPr/>
            <p:nvPr/>
          </p:nvSpPr>
          <p:spPr>
            <a:xfrm>
              <a:off x="1060560" y="1193760"/>
              <a:ext cx="373356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9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1"/>
            <a:stretch/>
          </p:blipFill>
          <p:spPr>
            <a:xfrm>
              <a:off x="1403280" y="1163520"/>
              <a:ext cx="2711520" cy="35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2"/>
            <a:srcRect l="9880" t="0" r="4977" b="0"/>
            <a:stretch/>
          </p:blipFill>
          <p:spPr>
            <a:xfrm>
              <a:off x="1093680" y="1746360"/>
              <a:ext cx="3638520" cy="43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3"/>
            <a:stretch/>
          </p:blipFill>
          <p:spPr>
            <a:xfrm>
              <a:off x="1446120" y="3095640"/>
              <a:ext cx="300852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4"/>
            <a:stretch/>
          </p:blipFill>
          <p:spPr>
            <a:xfrm>
              <a:off x="2475000" y="305424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5"/>
            <a:stretch/>
          </p:blipFill>
          <p:spPr>
            <a:xfrm>
              <a:off x="3376440" y="3591000"/>
              <a:ext cx="1243080" cy="24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46"/>
            <a:stretch/>
          </p:blipFill>
          <p:spPr>
            <a:xfrm>
              <a:off x="1954080" y="5245200"/>
              <a:ext cx="16401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7"/>
            <a:stretch/>
          </p:blipFill>
          <p:spPr>
            <a:xfrm>
              <a:off x="1020600" y="4130640"/>
              <a:ext cx="143532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8"/>
            <a:stretch/>
          </p:blipFill>
          <p:spPr>
            <a:xfrm>
              <a:off x="1940040" y="4448160"/>
              <a:ext cx="10461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9"/>
            <a:stretch/>
          </p:blipFill>
          <p:spPr>
            <a:xfrm>
              <a:off x="2006640" y="3260880"/>
              <a:ext cx="18082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0"/>
            <a:stretch/>
          </p:blipFill>
          <p:spPr>
            <a:xfrm>
              <a:off x="5554800" y="5249880"/>
              <a:ext cx="15476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1"/>
            <a:stretch/>
          </p:blipFill>
          <p:spPr>
            <a:xfrm>
              <a:off x="5533920" y="39211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2"/>
            <a:stretch/>
          </p:blipFill>
          <p:spPr>
            <a:xfrm>
              <a:off x="5883120" y="41799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53"/>
            <a:stretch/>
          </p:blipFill>
          <p:spPr>
            <a:xfrm>
              <a:off x="6232680" y="443880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54"/>
            <a:stretch/>
          </p:blipFill>
          <p:spPr>
            <a:xfrm>
              <a:off x="6581880" y="469728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55"/>
            <a:stretch/>
          </p:blipFill>
          <p:spPr>
            <a:xfrm>
              <a:off x="6931080" y="49561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56"/>
            <a:stretch/>
          </p:blipFill>
          <p:spPr>
            <a:xfrm>
              <a:off x="7280280" y="52149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7"/>
            <a:stretch/>
          </p:blipFill>
          <p:spPr>
            <a:xfrm>
              <a:off x="5943600" y="372600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58"/>
            <a:stretch/>
          </p:blipFill>
          <p:spPr>
            <a:xfrm>
              <a:off x="6292800" y="398448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9"/>
            <a:stretch/>
          </p:blipFill>
          <p:spPr>
            <a:xfrm>
              <a:off x="6642000" y="42433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0"/>
            <a:stretch/>
          </p:blipFill>
          <p:spPr>
            <a:xfrm>
              <a:off x="6991200" y="45021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61"/>
            <a:stretch/>
          </p:blipFill>
          <p:spPr>
            <a:xfrm>
              <a:off x="7340760" y="47610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2"/>
            <a:stretch/>
          </p:blipFill>
          <p:spPr>
            <a:xfrm>
              <a:off x="7689960" y="50198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63"/>
            <a:stretch/>
          </p:blipFill>
          <p:spPr>
            <a:xfrm>
              <a:off x="6353280" y="35305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4"/>
            <a:stretch/>
          </p:blipFill>
          <p:spPr>
            <a:xfrm>
              <a:off x="6702480" y="37893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65"/>
            <a:stretch/>
          </p:blipFill>
          <p:spPr>
            <a:xfrm>
              <a:off x="7051680" y="40482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66"/>
            <a:stretch/>
          </p:blipFill>
          <p:spPr>
            <a:xfrm>
              <a:off x="7400880" y="43070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7"/>
            <a:stretch/>
          </p:blipFill>
          <p:spPr>
            <a:xfrm>
              <a:off x="7750080" y="45655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8"/>
            <a:stretch/>
          </p:blipFill>
          <p:spPr>
            <a:xfrm>
              <a:off x="8099280" y="48243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69"/>
            <a:stretch/>
          </p:blipFill>
          <p:spPr>
            <a:xfrm>
              <a:off x="6762600" y="333540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0"/>
            <a:stretch/>
          </p:blipFill>
          <p:spPr>
            <a:xfrm>
              <a:off x="7112160" y="35942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1"/>
            <a:stretch/>
          </p:blipFill>
          <p:spPr>
            <a:xfrm>
              <a:off x="7461360" y="38527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72"/>
            <a:stretch/>
          </p:blipFill>
          <p:spPr>
            <a:xfrm>
              <a:off x="7810560" y="41115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73"/>
            <a:stretch/>
          </p:blipFill>
          <p:spPr>
            <a:xfrm>
              <a:off x="8159760" y="43704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4"/>
            <a:stretch/>
          </p:blipFill>
          <p:spPr>
            <a:xfrm>
              <a:off x="8508960" y="46292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75"/>
            <a:stretch/>
          </p:blipFill>
          <p:spPr>
            <a:xfrm>
              <a:off x="7172280" y="31399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76"/>
            <a:stretch/>
          </p:blipFill>
          <p:spPr>
            <a:xfrm>
              <a:off x="7521480" y="33987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77"/>
            <a:stretch/>
          </p:blipFill>
          <p:spPr>
            <a:xfrm>
              <a:off x="7870680" y="365760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8"/>
            <a:stretch/>
          </p:blipFill>
          <p:spPr>
            <a:xfrm>
              <a:off x="8220240" y="39164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9"/>
            <a:stretch/>
          </p:blipFill>
          <p:spPr>
            <a:xfrm>
              <a:off x="8569440" y="417528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0"/>
            <a:stretch/>
          </p:blipFill>
          <p:spPr>
            <a:xfrm>
              <a:off x="7581960" y="29448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1"/>
            <a:stretch/>
          </p:blipFill>
          <p:spPr>
            <a:xfrm>
              <a:off x="7931160" y="32036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2"/>
            <a:stretch/>
          </p:blipFill>
          <p:spPr>
            <a:xfrm>
              <a:off x="8280360" y="346248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3"/>
            <a:stretch/>
          </p:blipFill>
          <p:spPr>
            <a:xfrm>
              <a:off x="8629560" y="3720960"/>
              <a:ext cx="22536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1482120" y="2676600"/>
            <a:ext cx="6657120" cy="4320720"/>
            <a:chOff x="1482120" y="2676600"/>
            <a:chExt cx="6657120" cy="4320720"/>
          </a:xfrm>
        </p:grpSpPr>
        <p:sp>
          <p:nvSpPr>
            <p:cNvPr id="246" name=""/>
            <p:cNvSpPr/>
            <p:nvPr/>
          </p:nvSpPr>
          <p:spPr>
            <a:xfrm>
              <a:off x="2737440" y="34545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290196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347200">
              <a:off x="1695240" y="29779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1560" y="27525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267660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347200">
              <a:off x="5928840" y="275220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845200">
              <a:off x="6987600" y="533376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845200">
              <a:off x="2512440" y="571464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840" y="4324320"/>
              <a:ext cx="117900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e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26720" y="6126120"/>
              <a:ext cx="39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vesting removes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54080" y="111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19360" y="1282680"/>
            <a:ext cx="6521400" cy="1166400"/>
          </a:xfrm>
          <a:prstGeom prst="rect">
            <a:avLst/>
          </a:pr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long te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tmosp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released into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oods and Softw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high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ark in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le-lik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l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light in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2040" y="5334120"/>
            <a:ext cx="4172040" cy="1498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tive Australian h’wd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untain 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own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otted g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r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5346720"/>
            <a:ext cx="3811320" cy="1498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on Australian s’wd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ta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press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op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uglas f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66840" y="2868480"/>
            <a:ext cx="3359160" cy="2422800"/>
            <a:chOff x="366840" y="2868480"/>
            <a:chExt cx="3359160" cy="24228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66840" y="3171960"/>
              <a:ext cx="2178000" cy="18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1996920" y="2868480"/>
              <a:ext cx="1729080" cy="2422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5294160" y="2922480"/>
            <a:ext cx="3727440" cy="2374920"/>
            <a:chOff x="5294160" y="2922480"/>
            <a:chExt cx="3727440" cy="237492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rcRect l="0" t="6812" r="0" b="11163"/>
            <a:stretch/>
          </p:blipFill>
          <p:spPr>
            <a:xfrm>
              <a:off x="5905440" y="3510000"/>
              <a:ext cx="3116160" cy="147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5294160" y="2922480"/>
              <a:ext cx="1727280" cy="23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52560" y="154260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od on outside o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wood on inside o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wood on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 largest a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ing (layer)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5680" y="1174680"/>
            <a:ext cx="2924280" cy="5683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121520" y="5407200"/>
            <a:ext cx="522360" cy="1403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110360" y="4052880"/>
            <a:ext cx="496800" cy="2805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7088040" y="2647800"/>
            <a:ext cx="522360" cy="421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757920" y="1243080"/>
            <a:ext cx="1116000" cy="5614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6781680" y="-162000"/>
            <a:ext cx="1092240" cy="7020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V="1">
            <a:off x="5067360" y="5981040"/>
            <a:ext cx="2076480" cy="399960"/>
          </a:xfrm>
          <a:custGeom>
            <a:avLst/>
            <a:gdLst/>
            <a:ahLst/>
            <a:rect l="l" t="t" r="r" b="b"/>
            <a:pathLst>
              <a:path w="1740" h="672">
                <a:moveTo>
                  <a:pt x="0" y="672"/>
                </a:moveTo>
                <a:lnTo>
                  <a:pt x="1128" y="672"/>
                </a:lnTo>
                <a:lnTo>
                  <a:pt x="174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57600" y="3143160"/>
            <a:ext cx="3695760" cy="2038320"/>
            <a:chOff x="3657600" y="3143160"/>
            <a:chExt cx="3695760" cy="2038320"/>
          </a:xfrm>
        </p:grpSpPr>
        <p:sp>
          <p:nvSpPr>
            <p:cNvPr id="279" name=""/>
            <p:cNvSpPr/>
            <p:nvPr/>
          </p:nvSpPr>
          <p:spPr>
            <a:xfrm>
              <a:off x="4343400" y="3790800"/>
              <a:ext cx="2762280" cy="10670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4857840"/>
              <a:ext cx="2133720" cy="3236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7600" y="3143160"/>
              <a:ext cx="3581280" cy="127656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857840" y="2171520"/>
            <a:ext cx="2476440" cy="4533840"/>
            <a:chOff x="4857840" y="2171520"/>
            <a:chExt cx="2476440" cy="4533840"/>
          </a:xfrm>
        </p:grpSpPr>
        <p:sp>
          <p:nvSpPr>
            <p:cNvPr id="283" name=""/>
            <p:cNvSpPr/>
            <p:nvPr/>
          </p:nvSpPr>
          <p:spPr>
            <a:xfrm flipV="1">
              <a:off x="4857840" y="3314160"/>
              <a:ext cx="2343240" cy="33908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896000" y="2913840"/>
              <a:ext cx="2342880" cy="33908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029200" y="2590200"/>
              <a:ext cx="2152800" cy="163836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295960" y="2171160"/>
              <a:ext cx="2038320" cy="161892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6"/>
          <a:srcRect l="0" t="0" r="6963" b="5085"/>
          <a:stretch/>
        </p:blipFill>
        <p:spPr>
          <a:xfrm>
            <a:off x="488880" y="88920"/>
            <a:ext cx="1446120" cy="147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36720" y="3429000"/>
            <a:ext cx="7772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in forest grows tow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ranch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ing small knots in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5516640"/>
            <a:ext cx="777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k protects wood from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heds bark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of 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35680" y="1174680"/>
            <a:ext cx="2924280" cy="5683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277040" y="2430360"/>
            <a:ext cx="381240" cy="366732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734760" y="2344680"/>
            <a:ext cx="6809040" cy="1084320"/>
            <a:chOff x="734760" y="2344680"/>
            <a:chExt cx="6809040" cy="1084320"/>
          </a:xfrm>
        </p:grpSpPr>
        <p:sp>
          <p:nvSpPr>
            <p:cNvPr id="294" name=""/>
            <p:cNvSpPr/>
            <p:nvPr/>
          </p:nvSpPr>
          <p:spPr>
            <a:xfrm>
              <a:off x="734760" y="2344680"/>
              <a:ext cx="43092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ling - fibrous juvenile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omes pi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2552760"/>
              <a:ext cx="23623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50240" y="1855800"/>
            <a:ext cx="917280" cy="4287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709920" y="2287440"/>
            <a:ext cx="7032240" cy="4098600"/>
            <a:chOff x="709920" y="2287440"/>
            <a:chExt cx="7032240" cy="4098600"/>
          </a:xfrm>
        </p:grpSpPr>
        <p:sp>
          <p:nvSpPr>
            <p:cNvPr id="298" name=""/>
            <p:cNvSpPr/>
            <p:nvPr/>
          </p:nvSpPr>
          <p:spPr>
            <a:xfrm>
              <a:off x="722880" y="306864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9280" y="3276720"/>
              <a:ext cx="30668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3160" y="4211640"/>
              <a:ext cx="3355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rk - protects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bark made continu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falls off each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4419720"/>
              <a:ext cx="291456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920" y="5316480"/>
              <a:ext cx="46429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od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wood cells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est wood takes nutrients to 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51120" y="5524560"/>
              <a:ext cx="4991040" cy="30492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57760" y="255276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880" y="228744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6919920" y="1824120"/>
            <a:ext cx="1265400" cy="43574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709920" y="2287440"/>
            <a:ext cx="7299000" cy="4098600"/>
            <a:chOff x="709920" y="2287440"/>
            <a:chExt cx="7299000" cy="4098600"/>
          </a:xfrm>
        </p:grpSpPr>
        <p:sp>
          <p:nvSpPr>
            <p:cNvPr id="308" name=""/>
            <p:cNvSpPr/>
            <p:nvPr/>
          </p:nvSpPr>
          <p:spPr>
            <a:xfrm>
              <a:off x="722880" y="306864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29280" y="3276720"/>
              <a:ext cx="29905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" y="4211640"/>
              <a:ext cx="4173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wood - newest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 outside of tree (~ 1-3 c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kes nutrients from root to 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8120" y="4419720"/>
              <a:ext cx="379080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000" y="5316480"/>
              <a:ext cx="41475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rtwood - older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lls closed - can’t pass nutrie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 for waste - extra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65480" y="5543640"/>
              <a:ext cx="3733920" cy="2858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57760" y="255276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3880" y="228744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734160" y="1579680"/>
            <a:ext cx="15922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92280" y="2305080"/>
            <a:ext cx="7488000" cy="4098600"/>
            <a:chOff x="692280" y="2305080"/>
            <a:chExt cx="7488000" cy="4098600"/>
          </a:xfrm>
        </p:grpSpPr>
        <p:sp>
          <p:nvSpPr>
            <p:cNvPr id="318" name=""/>
            <p:cNvSpPr/>
            <p:nvPr/>
          </p:nvSpPr>
          <p:spPr>
            <a:xfrm>
              <a:off x="703800" y="308628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0200" y="3294360"/>
              <a:ext cx="28573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2280" y="4229280"/>
              <a:ext cx="42451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wood - newest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wood has thin cell wa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pwood most effective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99040" y="4437360"/>
              <a:ext cx="39812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2280" y="5334120"/>
              <a:ext cx="4248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rtwood - older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ldest sapwood becomes clogg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heartwood add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3640" y="5542200"/>
              <a:ext cx="3905280" cy="30492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257040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800" y="230508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5"/>
          <a:srcRect l="0" t="0" r="6963" b="5085"/>
          <a:stretch/>
        </p:blipFill>
        <p:spPr>
          <a:xfrm>
            <a:off x="298440" y="88920"/>
            <a:ext cx="1446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60" y="151920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th at beginning of growing s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, large cells - lighter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303960" y="1492200"/>
            <a:ext cx="26226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114480" y="2637000"/>
            <a:ext cx="7772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growth, often limited by lack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ck small cells - darker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the growth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2680" y="3457440"/>
            <a:ext cx="8886960" cy="2291040"/>
            <a:chOff x="112680" y="3457440"/>
            <a:chExt cx="8886960" cy="229104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rcRect l="0" t="0" r="0" b="6136"/>
            <a:stretch/>
          </p:blipFill>
          <p:spPr>
            <a:xfrm>
              <a:off x="5081760" y="3457440"/>
              <a:ext cx="3917880" cy="129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3" name=""/>
            <p:cNvSpPr/>
            <p:nvPr/>
          </p:nvSpPr>
          <p:spPr>
            <a:xfrm>
              <a:off x="112680" y="4308480"/>
              <a:ext cx="77724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lly one ring pe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me climates may have more than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e growth season pe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es or disease may produce an extra 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63440" y="4865760"/>
            <a:ext cx="8102520" cy="1928880"/>
            <a:chOff x="163440" y="4865760"/>
            <a:chExt cx="8102520" cy="192888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5829480" y="4865760"/>
              <a:ext cx="2436480" cy="1915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6" name=""/>
            <p:cNvSpPr/>
            <p:nvPr/>
          </p:nvSpPr>
          <p:spPr>
            <a:xfrm>
              <a:off x="163440" y="5972040"/>
              <a:ext cx="7772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wth rings give texture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gure to w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16040" y="1787400"/>
            <a:ext cx="2479680" cy="2481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657520" y="137160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 t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ood with b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00360" y="1866960"/>
            <a:ext cx="5372280" cy="3550320"/>
            <a:chOff x="3600360" y="1866960"/>
            <a:chExt cx="5372280" cy="3550320"/>
          </a:xfrm>
        </p:grpSpPr>
        <p:grpSp>
          <p:nvGrpSpPr>
            <p:cNvPr id="341" name=""/>
            <p:cNvGrpSpPr/>
            <p:nvPr/>
          </p:nvGrpSpPr>
          <p:grpSpPr>
            <a:xfrm>
              <a:off x="3600360" y="1866960"/>
              <a:ext cx="4057920" cy="2305080"/>
              <a:chOff x="3600360" y="1866960"/>
              <a:chExt cx="4057920" cy="2305080"/>
            </a:xfrm>
          </p:grpSpPr>
          <p:sp>
            <p:nvSpPr>
              <p:cNvPr id="342" name=""/>
              <p:cNvSpPr/>
              <p:nvPr/>
            </p:nvSpPr>
            <p:spPr>
              <a:xfrm>
                <a:off x="5200560" y="1866960"/>
                <a:ext cx="2457720" cy="230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00360" y="2952720"/>
                <a:ext cx="1314720" cy="380880"/>
              </a:xfrm>
              <a:prstGeom prst="rightArrow">
                <a:avLst>
                  <a:gd name="adj1" fmla="val 50000"/>
                  <a:gd name="adj2" fmla="val 862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03880" y="189396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"/>
            <p:cNvSpPr/>
            <p:nvPr/>
          </p:nvSpPr>
          <p:spPr>
            <a:xfrm>
              <a:off x="6675120" y="4226040"/>
              <a:ext cx="2297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-barked lo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apwood 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eartwoo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779200" y="3758760"/>
            <a:ext cx="6363000" cy="3099240"/>
            <a:chOff x="2779200" y="3758760"/>
            <a:chExt cx="6363000" cy="3099240"/>
          </a:xfrm>
        </p:grpSpPr>
        <p:sp>
          <p:nvSpPr>
            <p:cNvPr id="347" name=""/>
            <p:cNvSpPr/>
            <p:nvPr/>
          </p:nvSpPr>
          <p:spPr>
            <a:xfrm>
              <a:off x="3619440" y="4552920"/>
              <a:ext cx="2457360" cy="2305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3"/>
            <a:stretch/>
          </p:blipFill>
          <p:spPr>
            <a:xfrm>
              <a:off x="3784680" y="4749840"/>
              <a:ext cx="210816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rot="2211600">
              <a:off x="2762280" y="4114800"/>
              <a:ext cx="1314360" cy="380880"/>
            </a:xfrm>
            <a:prstGeom prst="rightArrow">
              <a:avLst>
                <a:gd name="adj1" fmla="val 50000"/>
                <a:gd name="adj2" fmla="val 8627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84800" y="5905440"/>
              <a:ext cx="29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aped log (so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pwood remov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41280" y="5749920"/>
            <a:ext cx="2585520" cy="825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prepa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in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2:34:44Z</dcterms:created>
  <dc:creator>gcheetham</dc:creator>
  <dc:description/>
  <dc:language>en-US</dc:language>
  <cp:lastModifiedBy>gcheetham</cp:lastModifiedBy>
  <dcterms:modified xsi:type="dcterms:W3CDTF">2005-03-13T20:55:25Z</dcterms:modified>
  <cp:revision>3</cp:revision>
  <dc:subject/>
  <dc:title>Timber - the Material</dc:title>
</cp:coreProperties>
</file>